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EB9-AE20-4029-89B7-3A75241C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4FD-34D5-44C1-91E4-E4E52AAE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BED-C318-497F-9F82-8849FE2D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8F1-1679-43AD-9403-48603057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D58-36CB-4E86-9F76-E2A69A6A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B9B8-C720-4FE3-8BC0-50EAFD7A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5E7C-438D-44FE-9F65-29BDFBFE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CF64-4067-4063-9CF3-1B93223D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41F3-C9A3-4C62-A377-9745C9CB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3BE4-F0D2-4AA3-AA0F-7507DCC6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10B6-F8BC-4CFD-BE3A-4EC30876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838-369F-46D6-BC42-37A7082A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7730-C584-41A5-A8F6-BDF89E15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8418-350E-4A26-A28B-F69123AF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8946-41DD-4534-9128-8368923D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A1E8-AC4A-45C8-8220-741827A1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6C80-426E-471F-A36C-E772FF91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930-5044-49FF-8A73-9086227B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863-742D-44AF-8E9E-22B5B2AD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828-BBC0-44D8-8FEC-23AAB897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821-F7CA-472C-BA17-E4CF2385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898-E2C9-48E0-8D52-DDE037EB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7E9-18A1-4259-BF38-8F93534E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140-6CF1-4A33-9B39-EB022FD4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4A2C-8EC3-4FE2-8B98-9940B67B174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3027-E933-4807-A683-654E8D960D8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342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official residence of the British Queen in London?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697440" y="6248520"/>
            <a:ext cx="12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487728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Buckingham Palace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86200" y="1066680"/>
            <a:ext cx="4114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7T16:33:0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